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763F-40A6-47E0-9C13-6508F2B60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70D4-8A6D-4862-9986-718B4138A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C126-ACD9-45CE-B5E5-37763F909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ECB5-9D40-46E3-9C0B-946CA2AEB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15A9-6827-4FA7-8748-DFAC1CD24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69B1-34BB-4668-8E72-2F295233B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2A28-4A5D-4933-BB4A-15343A059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7899-4376-42E2-A8A3-8137B846A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ECC8-CA80-40A7-9668-B404F5440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441D-4420-402E-90D3-656A7230E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4CEF-830D-4BCF-8D4B-12FC120DF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1FE6-4B05-47A2-849D-215B26AA2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0000-F821-4540-B8C6-5F6FE3F4F96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0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izing Sales on Account Using a Sales Journa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1001" descr=""/>
          <p:cNvPicPr/>
          <p:nvPr/>
        </p:nvPicPr>
        <p:blipFill>
          <a:blip r:embed="rId1"/>
          <a:stretch/>
        </p:blipFill>
        <p:spPr>
          <a:xfrm>
            <a:off x="2608200" y="2166840"/>
            <a:ext cx="4232160" cy="23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4C9E-65B3-4510-BCB4-F889375B3CEB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OF MERCHANDIS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1003" descr=""/>
          <p:cNvPicPr/>
          <p:nvPr/>
        </p:nvPicPr>
        <p:blipFill>
          <a:blip r:embed="rId1"/>
          <a:stretch/>
        </p:blipFill>
        <p:spPr>
          <a:xfrm>
            <a:off x="2603520" y="2133720"/>
            <a:ext cx="4241880" cy="233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2AF3-CAE4-4A50-B86E-8A07E30AFCC6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21_blue_100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20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5C70-1655-4557-AFCD-D1F0AF725C5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21_blue_1005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353C-78C4-4453-BF10-6515FFC0F983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C21_blue_1006" descr=""/>
          <p:cNvPicPr/>
          <p:nvPr/>
        </p:nvPicPr>
        <p:blipFill>
          <a:blip r:embed="rId1"/>
          <a:srcRect l="0" t="4336" r="0" b="13008"/>
          <a:stretch/>
        </p:blipFill>
        <p:spPr>
          <a:xfrm>
            <a:off x="304920" y="2281320"/>
            <a:ext cx="8534160" cy="1681200"/>
          </a:xfrm>
          <a:prstGeom prst="rect">
            <a:avLst/>
          </a:prstGeom>
          <a:ln w="0">
            <a:noFill/>
          </a:ln>
        </p:spPr>
      </p:pic>
      <p:pic>
        <p:nvPicPr>
          <p:cNvPr id="104" name="C21_blue_1007" descr=""/>
          <p:cNvPicPr/>
          <p:nvPr/>
        </p:nvPicPr>
        <p:blipFill>
          <a:blip r:embed="rId2"/>
          <a:srcRect l="0" t="0" r="0" b="3112"/>
          <a:stretch/>
        </p:blipFill>
        <p:spPr>
          <a:xfrm>
            <a:off x="5867280" y="4245120"/>
            <a:ext cx="2895840" cy="207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4880" y="37339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58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9880" y="3733920"/>
            <a:ext cx="32040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37339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495440"/>
            <a:ext cx="853416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mber 3. Sold merchandise on account to Village Crafts, $540.00, plus sales tax, $32.40; total, $572.40. Sales Invoice No. 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9600" y="4137120"/>
            <a:ext cx="28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480" y="5927760"/>
            <a:ext cx="42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rite the sales tax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2840" y="449568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rite the custome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3200" y="4854600"/>
            <a:ext cx="47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rite the sales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6080" y="5211720"/>
            <a:ext cx="62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rite the total amount owed by the custo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1400" y="5570640"/>
            <a:ext cx="38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rite the sales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289E-5870-4DF8-A66F-F145592928C6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NG, PROVING, AND RULING A SALES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C21_blue_1008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3760" cy="3954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4810-EF24-425A-BA25-EF50A9AC9C14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3A66-C37F-42A8-AE3D-7BEE672C2017}" type="slidenum">
              <a:t>8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48:16Z</dcterms:created>
  <dc:creator>M. C. McLaughlin</dc:creator>
  <dc:description/>
  <dc:language>en-US</dc:language>
  <cp:lastModifiedBy>M. C. McLaughlin</cp:lastModifiedBy>
  <dcterms:modified xsi:type="dcterms:W3CDTF">2005-04-22T22:06:21Z</dcterms:modified>
  <cp:revision>18</cp:revision>
  <dc:subject/>
  <dc:title>Lesson 10-1</dc:title>
</cp:coreProperties>
</file>